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FF2-DA52-4566-A9F0-A74E76D3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132-4967-48B2-B252-D3A899F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2DE-546C-4D35-8D53-5ABE9EA8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19E-01A3-48A4-88E6-E41DF997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AAC-31BD-4B2B-BC0B-B47BFD79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CD2-E2FE-442B-892D-E96DD03E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EFC-96FE-40A7-9449-8FC3FD4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710-14A9-4256-83FD-74EB2835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C99-73BF-4835-8113-46CBD36D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8FC-C857-4508-88BB-D2593A0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CE7-BC9B-4289-AF10-F8D59F36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A81-6A68-486B-AADC-1C0094F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CB99-ECF3-4F93-82A5-2AD601A12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80" y="625320"/>
            <a:ext cx="82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6 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Identify and Graph 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Evaluate Fractions Containing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9000" y="35186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n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35812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y number that you can write as a fraction of two integers, where the denominator is not zero. (a decimal that terminates or repea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720" y="4532400"/>
            <a:ext cx="221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ing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80720" y="45100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, 2, 3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840" y="51418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, 1, 2, 3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08040" y="55990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3, -2, -1, 0, 1, 2, 3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0920" y="209376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tion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57520" y="2093760"/>
            <a:ext cx="54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decimal that is non-terminating and non-rep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62120"/>
            <a:ext cx="8153280" cy="518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7621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295280"/>
            <a:ext cx="2895480" cy="373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676520"/>
            <a:ext cx="2057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2057400"/>
            <a:ext cx="129564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7080" y="304200"/>
            <a:ext cx="13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05560" cy="196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3040" y="3366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3832200"/>
            <a:ext cx="83818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383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5105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. 203 # 2 – 34 every other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4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 for all Pos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6160" y="3618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8:47:55Z</dcterms:created>
  <dc:creator>Susannah Graham</dc:creator>
  <dc:description/>
  <dc:language>en-US</dc:language>
  <cp:lastModifiedBy>grahams</cp:lastModifiedBy>
  <dcterms:modified xsi:type="dcterms:W3CDTF">2011-12-19T17:50:48Z</dcterms:modified>
  <cp:revision>8</cp:revision>
  <dc:subject/>
  <dc:title>Homework to go over in groups: Homework:  p. 189  #18 – 24 even      p. 194 #28 – 34 even     and  p. 195 #56 </dc:title>
</cp:coreProperties>
</file>